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38EE-73D8-466C-9776-60AB94742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7398-86E2-4F24-BF6B-2F358788DE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06F8-8BEA-455C-82D7-D502ED2289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AFD7-8105-4F1E-B0BF-DBEA90A26C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1472-43E8-49BE-ACC1-627F89AC1B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BCD0-6B54-4597-878F-E52334BC08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B1CF-1818-4C97-B12B-DBEFE94535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B922-0290-4DB4-972E-9A6C93D806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E9B7-B03F-40C3-A9D5-1551876722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F6B7-825B-49AA-BE42-190641FE5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1E43-223E-4C72-B45F-43E2092F85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7B76-80A1-4DD0-B621-D0CD7ABF3D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84C2-56EA-4D9D-8009-FF59F8DBBB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722B-FF0E-4873-B394-817EAD033D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15E1-5F5B-4C11-8D46-E6394F4468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7771-1F78-459E-B0B1-A1EC47E38D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0DD1-2502-42DC-973F-7D715854CA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3E13-A56A-4A8A-B8A6-7451DB11D3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73BF-A6C5-408B-A714-47D5F2E171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5B5B-0764-4C8D-A16C-0512B5E138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CE1F-ECAA-450E-939B-D698C240BC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3AFD-C89F-4947-8F96-40F208B533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1602-347F-4E0A-8912-8B267CDD36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C0A4-9695-41A0-8D5C-21FDC70D9E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E42D-508D-46E1-80AC-425E9D2452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5360-E186-4A56-AEF5-B57E91FD60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FEF3-57CC-4D64-8A09-22306DC3A3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7E6F-B574-40A9-8D5D-DCE9180468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2BB0-9E6A-414F-AFCA-DED365D33C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9E99-169D-4949-9AA5-11FA467C2F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18DD-5D05-46A5-BDA9-0993021B59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E2C2-57C7-46A5-807C-7D163D1976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C800-4C06-442A-941C-2DA397E1F3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D57-4441-4C47-A08D-CC891761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821-6DBF-4C18-B659-4E0F99C4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E33-7E00-4E5D-80CB-4A2160C3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F54-DE98-42FD-B6B8-59A49231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847F-DBC8-4351-B794-B1CB31D5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2897-16CE-421C-986E-F5F9F374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3A34-1AA4-48EA-A64C-D8ED06C0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F570-FAC6-4A4A-91CF-38193660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566B-EB94-479A-AF2E-964163DC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8592-7D7E-41DB-988C-F2DF357D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ADD9-D9B4-49F9-9014-07692F3F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290-047C-4F07-92A2-5BF57157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0849-2AEC-4F16-B553-B7D2424D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48EA-81C2-4484-9CFF-331B4D07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4A0A-1C6B-464C-941F-739829AF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2A0D-FC44-41D2-9C5B-8C12E713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1A4E-E2A7-48E7-AED1-6AA9A3C7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1EE-455D-48C8-855F-0C5F9ACE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269-B0E6-4E1A-B364-6F9B804F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5AD-8C23-46FC-A320-3BEB8C06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414-83BC-48B5-91BC-BE8936DC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80A-CDA0-4B52-A682-E81ECBFA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A30-6C34-455A-9B40-4D6EC7BC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8AC-58DF-4AAB-A856-71D52377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CDC7-E769-4C60-9351-CDE84D704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C626-D791-4511-8F10-56D59FB92F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movie-History%20of%20Measurement.as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movie-Metric%20System.as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movie-discovery%20by%20trial%20and%20error%20or%20accident.as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ovie-Scientific%20Method.as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hap 2: Measurements and Calculation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9528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s #1:  Scientific Metho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5880" y="533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oday’s 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Who in here wants 100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What does the number 100 mean in the above ques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 basic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Measurements without units are MEANINGLES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Measure the length of your desk using your palms and fingers.  Write down your measur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Compare your results to 2 people you are sitting n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3. What did you notice about your measurem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Must have standard measuring device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*Read pg 33, 5</a:t>
            </a:r>
            <a:r>
              <a:rPr b="0" lang="en-US" sz="3200" spc="-1" strike="noStrike" baseline="30000">
                <a:solidFill>
                  <a:srgbClr val="ffc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 paragra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1. Who keeps track of our standards and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styles for measur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2. Why do we not use commas in numb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in science clas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*Look at pg 34, Table 1– look at the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Mov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movie-History of Measurement.as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Systeme International d’Unites (SI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based on metric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US is only major country NOT using 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*Metric Conversion Act passed in 1975– US agreed to convert to SI on voluntary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*HO: Metric System Base Units,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-look at pg 35, Cross-Disciplinary b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-look at pg 36, Table 3 (Derived Uni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Mov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movie-Metric System.as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SI symbols and na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write symbol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nanonseconds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gigagra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dekaliter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micrometer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rite na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mm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M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m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dL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Scales Used in Scien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Celsius (◦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crements equivalent in size to Kelvins, but represented by different nu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Kelvin (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standard SI unit of te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bsolute zero (0 K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coldest temp. possible; temp. at which everything would be froz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*no movement of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:  Temp. Transparenc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Compare 3 temp. scales for wat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Boiling te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Freezing te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3. Coldest temp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1. What steps might a detective take to solve a cas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2. How would you determine the best way to get to school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3. How would the two above processes be similar to how a scientist would make discoveri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hap 2: Measurements and Calculation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9528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s #3:  Con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6095880" y="533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oday’s 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Using a ruler, measure the front cover of your Chem I book from top to bottom in inches than in centime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-Compare inch value to centimeter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-Compare 1 inch to 1 cm on rul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Explain why the numbers are different even though they are measuring the same dimen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We can relate measurements made in English system to unit in the SI syste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length: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.0936 yard  =  1 m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We can relate measurements made in an SI unit to another SI uni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length: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 m  =  1000 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3. We can do this </a:t>
            </a:r>
            <a:r>
              <a:rPr b="0" lang="en-US" sz="3200" spc="-1" strike="noStrike" u="sng">
                <a:solidFill>
                  <a:srgbClr val="f8a500"/>
                </a:solidFill>
                <a:uFillTx/>
                <a:latin typeface="Tahoma"/>
              </a:rPr>
              <a:t>mathematically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 using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method to convert from one unit to another using conversion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version facto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equivalents between differing units written as a rat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HO:  SI Units and Conversion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*highlight the SI standard units listed under each dim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When you multiply by 1 do you change the numb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Ex:  2 m </a:t>
            </a: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1 = 2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When you use conversion factors you are multiplying by 1,  thus we are NOT changing the measurement only the value to which it is being compared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Ex:  1 m  =  1000 mm              1 =    1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000 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4000 mm   </a:t>
            </a: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m 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   =   4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000 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4800600" y="4876920"/>
            <a:ext cx="838080" cy="0"/>
          </a:xfrm>
          <a:prstGeom prst="line">
            <a:avLst/>
          </a:prstGeom>
          <a:ln w="9360">
            <a:solidFill>
              <a:srgbClr val="f8a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6781680" y="5105520"/>
            <a:ext cx="1447920" cy="0"/>
          </a:xfrm>
          <a:prstGeom prst="line">
            <a:avLst/>
          </a:prstGeom>
          <a:ln w="93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3276720" y="6095880"/>
            <a:ext cx="1371600" cy="0"/>
          </a:xfrm>
          <a:prstGeom prst="line">
            <a:avLst/>
          </a:prstGeom>
          <a:ln w="93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However, not all conversions are done using dimensional analy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Temperature conversions are done using equa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mperature convers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◦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 to ◦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large # to small #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◦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 to ◦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mall # to large #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◦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 to 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K to ◦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7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7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scientific discoveries made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rendip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discovery made by accident while looking for something e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*Ex: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-finding a dollar, while looking for a so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-discovery of Tefl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-coating on windshie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trial and er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hap 2: Measurements and Calculation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tes #6:  Reliability of Measur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095880" y="533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oday’s 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 Measure your book from top to bottom </a:t>
            </a: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(just as you did previously)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 cover in centimeters on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 Compare your measurement with at least 2 people around you and write down what you f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 Can measurements be exact?  Why or Why not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 Measurement is Perf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values close to most accepted answ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errors cause inaccurac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*most of time, </a:t>
            </a:r>
            <a:r>
              <a:rPr b="0" lang="en-US" sz="3200" spc="-1" strike="noStrike" u="sng">
                <a:solidFill>
                  <a:srgbClr val="f8a500"/>
                </a:solidFill>
                <a:uFillTx/>
                <a:latin typeface="Tahoma"/>
              </a:rPr>
              <a:t>can be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 improved by being 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more care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judge accuracy using: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ercent error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2 pair of students measure width of book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(from left to right– NOT from top to bottom)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 with the 3 differently calibrated rulers using as many decimal places for their values as the ruler will allow.  Have each pair compare their measured valu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What can be said about each measure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3. Which would be the best measurement and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values close to one anot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describes limitations of measuring instru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Ex:  meterstick divided into cm is not a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cise as one divided into 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8a500"/>
                </a:solidFill>
                <a:latin typeface="Tahoma"/>
              </a:rPr>
              <a:t>*thus, precision can only be improved if a more </a:t>
            </a:r>
            <a:r>
              <a:rPr b="0" lang="en-US" sz="24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8a500"/>
                </a:solidFill>
                <a:latin typeface="Tahoma"/>
              </a:rPr>
              <a:t>precise measuring device is avai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keep track of precision using: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gnificant figur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sig. figs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thus, may need to: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ound or use scientific notation (sci. no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. accuracy vs precision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rtboard  </a:t>
            </a:r>
            <a:r>
              <a:rPr b="0" lang="en-US" sz="2400" spc="-1" strike="noStrike">
                <a:solidFill>
                  <a:srgbClr val="f8a500"/>
                </a:solidFill>
                <a:latin typeface="Tahoma"/>
              </a:rPr>
              <a:t>(bull’s eye is most accepted posi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228600" y="1981080"/>
            <a:ext cx="8381880" cy="2514600"/>
            <a:chOff x="228600" y="1981080"/>
            <a:chExt cx="8381880" cy="2514600"/>
          </a:xfrm>
        </p:grpSpPr>
        <p:grpSp>
          <p:nvGrpSpPr>
            <p:cNvPr id="229" name="Group 4"/>
            <p:cNvGrpSpPr/>
            <p:nvPr/>
          </p:nvGrpSpPr>
          <p:grpSpPr>
            <a:xfrm>
              <a:off x="228600" y="1981080"/>
              <a:ext cx="2286000" cy="2514600"/>
              <a:chOff x="228600" y="1981080"/>
              <a:chExt cx="2286000" cy="2514600"/>
            </a:xfrm>
          </p:grpSpPr>
          <p:sp>
            <p:nvSpPr>
              <p:cNvPr id="230" name="Oval 5"/>
              <p:cNvSpPr/>
              <p:nvPr/>
            </p:nvSpPr>
            <p:spPr>
              <a:xfrm>
                <a:off x="228600" y="1981080"/>
                <a:ext cx="2286000" cy="2514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Oval 6"/>
              <p:cNvSpPr/>
              <p:nvPr/>
            </p:nvSpPr>
            <p:spPr>
              <a:xfrm>
                <a:off x="609480" y="2438280"/>
                <a:ext cx="1524240" cy="1676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Oval 7"/>
              <p:cNvSpPr/>
              <p:nvPr/>
            </p:nvSpPr>
            <p:spPr>
              <a:xfrm>
                <a:off x="1066680" y="289548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8"/>
            <p:cNvGrpSpPr/>
            <p:nvPr/>
          </p:nvGrpSpPr>
          <p:grpSpPr>
            <a:xfrm>
              <a:off x="3200400" y="1981080"/>
              <a:ext cx="2286000" cy="2514600"/>
              <a:chOff x="3200400" y="1981080"/>
              <a:chExt cx="2286000" cy="2514600"/>
            </a:xfrm>
          </p:grpSpPr>
          <p:sp>
            <p:nvSpPr>
              <p:cNvPr id="234" name="Oval 9"/>
              <p:cNvSpPr/>
              <p:nvPr/>
            </p:nvSpPr>
            <p:spPr>
              <a:xfrm>
                <a:off x="3200400" y="1981080"/>
                <a:ext cx="2286000" cy="2514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81280" y="2438280"/>
                <a:ext cx="1524240" cy="1676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4038480" y="289548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6324480" y="1981080"/>
              <a:ext cx="2286000" cy="2514600"/>
              <a:chOff x="6324480" y="1981080"/>
              <a:chExt cx="2286000" cy="2514600"/>
            </a:xfrm>
          </p:grpSpPr>
          <p:sp>
            <p:nvSpPr>
              <p:cNvPr id="238" name="Oval 13"/>
              <p:cNvSpPr/>
              <p:nvPr/>
            </p:nvSpPr>
            <p:spPr>
              <a:xfrm>
                <a:off x="6324480" y="1981080"/>
                <a:ext cx="2286000" cy="2514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Oval 14"/>
              <p:cNvSpPr/>
              <p:nvPr/>
            </p:nvSpPr>
            <p:spPr>
              <a:xfrm>
                <a:off x="6705360" y="2438280"/>
                <a:ext cx="1524240" cy="1676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Oval 15"/>
              <p:cNvSpPr/>
              <p:nvPr/>
            </p:nvSpPr>
            <p:spPr>
              <a:xfrm>
                <a:off x="7162560" y="289548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Mov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movie-discovery by trial and error or accident.as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cientific metho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logical approach to solving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exact steps may vary– its NOT a fixed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*HO:  Sci.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Activity:  Observ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The scientific method deals with making good observations and collecting good data—being observant is a mark of a good scientist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In your notebook under the title “Observations”, write down as many observations of the object as you can in 1 minute.  Use your senses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(smell, hearing, seeing).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  Also, try to estimate some data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(such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as height, width, etc…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3. Make sure you observe w/o prejudges.  Do not make inferences or interpretations.  Make observation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Look at your observations of the potato “candle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Give me some qualitative observations you m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What could have been some you could have made, if you were allowed to observe it clos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3. Give me some quantitative observations you m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4. What could have been some you could have made, if you were allowed to observe it clos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Atomic Theory- explains ideas about the atom.  It has changed many times thru hist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Law of Gravitation- describes gravity, but as of right now there is NO explanation for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movie-Scientific Method.as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*What is wrong with 1 of the statements from the movi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hap 2: Measurements and Calculation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28240" y="43430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s #2: Measurem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Quantitative Da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5880" y="533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oday’s 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22:11:43Z</dcterms:created>
  <dc:creator>Amy Beiter</dc:creator>
  <dc:description/>
  <cp:keywords/>
  <dc:language>en-US</dc:language>
  <cp:lastModifiedBy>Teacher</cp:lastModifiedBy>
  <dcterms:modified xsi:type="dcterms:W3CDTF">2010-10-12T12:36:44Z</dcterms:modified>
  <cp:revision>75</cp:revision>
  <dc:subject/>
  <dc:title>Chap 2: Measurements and Calcul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791033</vt:lpwstr>
  </property>
</Properties>
</file>